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29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1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A000-09A0-4E29-8BAC-48F5A195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B341-A01C-4473-A479-4FE8532C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4B4C-EFB5-4A78-B22B-25F5657B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B121-636B-4E84-B2A1-CBD8D983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089D-632E-4890-9B79-EA8889C9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02BA-B305-4CAE-A6F9-2363C77C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7D0B-9D85-4577-BBBA-2A2D65F0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3670-4957-4658-9936-85BFB815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A0EE-0AAB-4D2C-9D0F-F5E9D67E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DE5A-F6E4-49B1-8226-260D8AEF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7C1A-B8C4-4758-89A7-0CD0FE7D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1F06-D1E8-4F5B-941A-CB1BDDCC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86DB-0EBD-4964-A893-37C420B7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E915-C38B-41B1-8073-20A50152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DEDB-B098-4E87-9DC9-4003FAA9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21BF-1CE5-4EF8-A42E-AE09EFF5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E137-A1E0-4525-B26A-677567A6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DA8B-F214-4C40-89F5-7B82AC40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5A66-EA5A-4A53-BBF3-574B004F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0CC8-D8BD-4D47-AB58-281118A3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A290-73EC-47CB-BBB0-C2DEE641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ECA5-F06C-4C6D-BB3D-0C1707E7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BE73-DAB1-4A48-8E20-63BB7F20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3CEE-6254-4F9D-88EF-E5852807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AFE4-BB61-47D9-BC18-2FDA50667A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0536-B3EC-4EC9-9FEB-6CA3338338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unninghampeanuts.com/100_0168.JPG/100_0168-full;init:.JPG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coastgis.marsci.uga.edu/summit/climatemtn.htm" TargetMode="External"/><Relationship Id="rId2" Type="http://schemas.openxmlformats.org/officeDocument/2006/relationships/hyperlink" Target="http://coastgis.marsci.uga.edu/summit/climatecoast.htm" TargetMode="External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arm Up Preparation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nell note sty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line in middle of pa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on the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on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87656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region is the state of Georgia located in within the United St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876560" y="394128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4668840" y="3551400"/>
            <a:ext cx="40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Times New Roman"/>
              </a:rPr>
              <a:t>SS8G1 a.</a:t>
            </a:r>
            <a:r>
              <a:rPr b="0" lang="en-US" sz="3800" spc="-1" strike="noStrike">
                <a:solidFill>
                  <a:srgbClr val="ff3300"/>
                </a:solidFill>
                <a:latin typeface="Times New Roman"/>
              </a:rPr>
              <a:t> Locate Georgia in relation to region, nation, continent, and hemispheres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534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384120"/>
            <a:ext cx="77724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Times New Roman"/>
              </a:rPr>
              <a:t>SS8G1 a.</a:t>
            </a:r>
            <a:r>
              <a:rPr b="0" lang="en-US" sz="3800" spc="-1" strike="noStrike">
                <a:solidFill>
                  <a:srgbClr val="ff3300"/>
                </a:solidFill>
                <a:latin typeface="Times New Roman"/>
              </a:rPr>
              <a:t> Locate Georgia in relation to region, nation, continent, and hemispheres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at region is the state of Georgia located in within the United St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0" y="3124080"/>
            <a:ext cx="4876920" cy="3124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4952880" y="3200400"/>
            <a:ext cx="4038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S8G1 b.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Describe the five geographic regions of Georgia, include the Blue Ridge Mountains, Ridge and Valley, Appalachian Plateau, Piedmont, and Coastal Plain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53388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SS8G1 b.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 Describe the five geographic regions of Georgia, include the Blue Ridge Mountains, Ridge and Valley, Appalachian Plateau, Piedmont, and Coastal Plain.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2592000"/>
            <a:ext cx="777240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What is a reg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A </a:t>
            </a:r>
            <a:r>
              <a:rPr b="1" i="1" lang="en-US" sz="4400" spc="-1" strike="noStrike">
                <a:solidFill>
                  <a:srgbClr val="92d050"/>
                </a:solidFill>
                <a:latin typeface="Arial"/>
              </a:rPr>
              <a:t>region</a:t>
            </a: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 is the basic unit of study in geograph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b0f0"/>
                </a:solidFill>
                <a:uFillTx/>
                <a:latin typeface="Times New Roman"/>
              </a:rPr>
              <a:t>Georgia’s 5 physiographic region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1) The Appalachian </a:t>
            </a: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Plat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2) The Ridge &amp; Valley           </a:t>
            </a: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3) The Blue Ridge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4) The Piedmont  Plat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5) The Coastal Pl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m-9031"/>
          <p:cNvPicPr/>
          <p:nvPr/>
        </p:nvPicPr>
        <p:blipFill>
          <a:blip r:embed="rId1"/>
          <a:stretch/>
        </p:blipFill>
        <p:spPr>
          <a:xfrm>
            <a:off x="4419720" y="1143000"/>
            <a:ext cx="4267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384120"/>
            <a:ext cx="77724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SS8G1 b.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 Describe the five geographic regions of Georgia, include the Blue Ridge Mountains, Ridge and Valley, Appalachian Plateau, Piedmont, and Coastal Plain.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2058480"/>
            <a:ext cx="352584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Appalachian Platea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Smalle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maze of limestone caves, deep canyons, and interesting ro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r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northwestern corner of th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83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m-9410"/>
          <p:cNvPicPr/>
          <p:nvPr/>
        </p:nvPicPr>
        <p:blipFill>
          <a:blip r:embed="rId1"/>
          <a:stretch/>
        </p:blipFill>
        <p:spPr>
          <a:xfrm>
            <a:off x="4419720" y="2362320"/>
            <a:ext cx="4419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SS8G1 b.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 Describe the five geographic regions of Georgia, include the Blue Ridge Mountains, Ridge and Valley, Appalachian Plateau, Piedmont, and Coastal Plain.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Ridge and </a:t>
            </a:r>
            <a:br>
              <a:rPr sz="2800"/>
            </a:b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Vall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s low open valleys and narrow ridges that run parallel to the valle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2d050"/>
                </a:solidFill>
                <a:latin typeface="Arial"/>
              </a:rPr>
              <a:t>Forests &amp; pastures dominate the region, but there are flat and fertile farmland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016240" y="2363760"/>
            <a:ext cx="367020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400px-Bristol_tenn_ridgelines2"/>
          <p:cNvPicPr/>
          <p:nvPr/>
        </p:nvPicPr>
        <p:blipFill>
          <a:blip r:embed="rId1"/>
          <a:stretch/>
        </p:blipFill>
        <p:spPr>
          <a:xfrm>
            <a:off x="4572000" y="2514600"/>
            <a:ext cx="4267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SS8G1 b.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 Describe the five geographic regions of Georgia, include the Blue Ridge Mountains, Ridge and Valley, Appalachian Plateau, Piedmont, and Coastal Plain.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4038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 Ridge Reg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for its rugged beau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ed in 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northeastern 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92d050"/>
                </a:solidFill>
                <a:uFillTx/>
                <a:latin typeface="Arial"/>
              </a:rPr>
              <a:t>highest and largest group of mountains in Georgia is in this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871520" y="2287440"/>
            <a:ext cx="381492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blue_ridge_nc"/>
          <p:cNvPicPr/>
          <p:nvPr/>
        </p:nvPicPr>
        <p:blipFill>
          <a:blip r:embed="rId1"/>
          <a:stretch/>
        </p:blipFill>
        <p:spPr>
          <a:xfrm>
            <a:off x="4343400" y="2286000"/>
            <a:ext cx="44956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3300"/>
                </a:solidFill>
                <a:latin typeface="Times New Roman"/>
              </a:rPr>
              <a:t>SS8G1 b.</a:t>
            </a:r>
            <a:r>
              <a:rPr b="0" lang="en-US" sz="2900" spc="-1" strike="noStrike">
                <a:solidFill>
                  <a:srgbClr val="ff3300"/>
                </a:solidFill>
                <a:latin typeface="Times New Roman"/>
              </a:rPr>
              <a:t> Describe the five geographic regions of Georgia, include the Blue Ridge Mountains, Ridge and Valley, Appalachian Plateau, Piedmont, and Coastal Plain.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437920"/>
            <a:ext cx="35053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 Ridge (cont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2d050"/>
                </a:solidFill>
                <a:latin typeface="Arial"/>
              </a:rPr>
              <a:t>Brasstown Bald, the highest peak in the stat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 is located in this region. (Almost 5000 ft. hig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871520" y="2440080"/>
            <a:ext cx="3814920" cy="36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10004635fit_brasstown_bald_blairsville"/>
          <p:cNvPicPr/>
          <p:nvPr/>
        </p:nvPicPr>
        <p:blipFill>
          <a:blip r:embed="rId1"/>
          <a:stretch/>
        </p:blipFill>
        <p:spPr>
          <a:xfrm>
            <a:off x="4419720" y="2286000"/>
            <a:ext cx="41907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SS8G1 b.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 Describe the five geographic regions of Georgia, include the Blue Ridge Mountains, Ridge and Valley, Appalachian Plateau, Piedmont, and Coastal Plain.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830240"/>
            <a:ext cx="352584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dmo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2d050"/>
                </a:solidFill>
                <a:latin typeface="Arial"/>
              </a:rPr>
              <a:t>Begins in the mountain foothills of GA and goes to the central part of the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granite-based landform makes up about 1/3 of the state’s land ar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2d050"/>
                </a:solidFill>
                <a:uFillTx/>
                <a:latin typeface="Arial"/>
              </a:rPr>
              <a:t>About ½ of the state’s population lives in the Piedmont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871520" y="1599840"/>
            <a:ext cx="381492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48320" y="434304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map-piedmont"/>
          <p:cNvPicPr/>
          <p:nvPr/>
        </p:nvPicPr>
        <p:blipFill>
          <a:blip r:embed="rId1"/>
          <a:stretch/>
        </p:blipFill>
        <p:spPr>
          <a:xfrm>
            <a:off x="6248520" y="1523880"/>
            <a:ext cx="2450880" cy="2667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AtlantaNight"/>
          <p:cNvPicPr/>
          <p:nvPr/>
        </p:nvPicPr>
        <p:blipFill>
          <a:blip r:embed="rId2"/>
          <a:stretch/>
        </p:blipFill>
        <p:spPr>
          <a:xfrm>
            <a:off x="4191120" y="4343400"/>
            <a:ext cx="37335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Unit 1 Geography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7086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Performance Standard (G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S8G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tudent will describ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Georgia with regard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physical features and lo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SS8G1 b.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 Describe the five geographic regions of Georgia, include the Blue Ridge Mountains, Ridge and Valley, Appalachian Plateau, Piedmont, and Coastal Plain.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astal Pl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2d050"/>
                </a:solidFill>
                <a:uFillTx/>
                <a:latin typeface="Arial"/>
              </a:rPr>
              <a:t>Largest regio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ies three-fifths of th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92d050"/>
                </a:solidFill>
                <a:uFillTx/>
                <a:latin typeface="Arial"/>
              </a:rPr>
              <a:t>major agricultural region of the state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soil that varies from limestone to c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The Coastal Plain region is separated from the Piedmont Plateau by a natural boundary known as the </a:t>
            </a:r>
            <a:r>
              <a:rPr b="1" lang="en-US" sz="2400" spc="-1" strike="noStrike" u="sng">
                <a:solidFill>
                  <a:srgbClr val="92d050"/>
                </a:solidFill>
                <a:uFillTx/>
                <a:latin typeface="Arial"/>
              </a:rPr>
              <a:t>Fall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871520" y="1904760"/>
            <a:ext cx="381492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8320" y="434304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0" descr="400,3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905120"/>
            <a:ext cx="4114800" cy="2247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CoastalPlainSandySoil"/>
          <p:cNvPicPr/>
          <p:nvPr/>
        </p:nvPicPr>
        <p:blipFill>
          <a:blip r:embed="rId3"/>
          <a:stretch/>
        </p:blipFill>
        <p:spPr>
          <a:xfrm>
            <a:off x="4648320" y="4267080"/>
            <a:ext cx="4114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sson part 2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Locate and evaluate the importance of key physical features on the development of Georgia; include the Fall Line, Okefenokee Swamp, Appalachian Mountains, Chattahoochee and Savannah Rivers, and barrier is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3300"/>
                </a:solidFill>
                <a:latin typeface="Times New Roman"/>
              </a:rPr>
              <a:t>c. Locate and evaluate the importance of key physical features on the development of Georgia; include the Fall Line, Okefenokee Swamp, Appalachian Mountains, Chattahoochee and Savannah Rivers, and barrier islands.</a:t>
            </a:r>
            <a:br>
              <a:rPr sz="2100"/>
            </a:b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all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Separates the Piedmont and Coastal pl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boundary about 20 miles wide that runs across Georg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lled Fall Line due to its many water fal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jor Cities along Fall Li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1. Augu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2. Mac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3. Columb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4. Milledgevil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800240" y="2514240"/>
            <a:ext cx="381492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8320" y="449532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0" descr="m-9800"/>
          <p:cNvPicPr/>
          <p:nvPr/>
        </p:nvPicPr>
        <p:blipFill>
          <a:blip r:embed="rId1"/>
          <a:stretch/>
        </p:blipFill>
        <p:spPr>
          <a:xfrm>
            <a:off x="4648320" y="2057400"/>
            <a:ext cx="4305240" cy="2438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MapofGeorgia"/>
          <p:cNvPicPr/>
          <p:nvPr/>
        </p:nvPicPr>
        <p:blipFill>
          <a:blip r:embed="rId2"/>
          <a:stretch/>
        </p:blipFill>
        <p:spPr>
          <a:xfrm>
            <a:off x="5334120" y="4572000"/>
            <a:ext cx="3124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3300"/>
                </a:solidFill>
                <a:latin typeface="Times New Roman"/>
              </a:rPr>
              <a:t>c. Locate and evaluate the importance of key physical features on the development of Georgia; include the Fall Line, Okefenokee Swamp, Appalachian Mountains, Chattahoochee and Savannah Rivers, and barrier islands.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280" y="2285640"/>
            <a:ext cx="3276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efenokee Sw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ed in the </a:t>
            </a:r>
            <a:r>
              <a:rPr b="1" lang="en-US" sz="2000" spc="-1" strike="noStrike" u="sng">
                <a:solidFill>
                  <a:srgbClr val="006600"/>
                </a:solidFill>
                <a:uFillTx/>
                <a:latin typeface="Arial"/>
              </a:rPr>
              <a:t>southeast corner of Geo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largest swamp in North America.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Almost covers 700 m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e to more than 400 species of an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Became the Okefenokee National Wildlife Refuge in 19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871520" y="2287080"/>
            <a:ext cx="3814920" cy="32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92883-004-0A824BDA"/>
          <p:cNvPicPr/>
          <p:nvPr/>
        </p:nvPicPr>
        <p:blipFill>
          <a:blip r:embed="rId1"/>
          <a:stretch/>
        </p:blipFill>
        <p:spPr>
          <a:xfrm>
            <a:off x="3581280" y="2209680"/>
            <a:ext cx="2438640" cy="1627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okefenokee-swamp-gaok2"/>
          <p:cNvPicPr/>
          <p:nvPr/>
        </p:nvPicPr>
        <p:blipFill>
          <a:blip r:embed="rId2"/>
          <a:stretch/>
        </p:blipFill>
        <p:spPr>
          <a:xfrm>
            <a:off x="6400800" y="2209680"/>
            <a:ext cx="2438280" cy="1629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300px-Okefenokeelocatormap"/>
          <p:cNvPicPr/>
          <p:nvPr/>
        </p:nvPicPr>
        <p:blipFill>
          <a:blip r:embed="rId3"/>
          <a:stretch/>
        </p:blipFill>
        <p:spPr>
          <a:xfrm>
            <a:off x="3505320" y="38862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004aTA-11542884"/>
          <p:cNvPicPr/>
          <p:nvPr/>
        </p:nvPicPr>
        <p:blipFill>
          <a:blip r:embed="rId4"/>
          <a:stretch/>
        </p:blipFill>
        <p:spPr>
          <a:xfrm>
            <a:off x="6248520" y="4038480"/>
            <a:ext cx="2743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3300"/>
                </a:solidFill>
                <a:latin typeface="Times New Roman"/>
              </a:rPr>
              <a:t>c. Locate and evaluate the importance of key physical features on the development of Georgia; include the Fall Line, Okefenokee Swamp, Appalachian Mountains, Chattahoochee and Savannah Rivers, and barrier islands.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alachian Mou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Southernmost part of the Appalachian Mountains are the Blue Ridge Mountai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GA’s highest and wettest are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(over 80 inches of annual rainfal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232240" y="2363760"/>
            <a:ext cx="345456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gacolor"/>
          <p:cNvPicPr/>
          <p:nvPr/>
        </p:nvPicPr>
        <p:blipFill>
          <a:blip r:embed="rId1"/>
          <a:stretch/>
        </p:blipFill>
        <p:spPr>
          <a:xfrm>
            <a:off x="4876920" y="2286000"/>
            <a:ext cx="38782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Times New Roman"/>
              </a:rPr>
              <a:t>Appalachian Mountains (cont.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3733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rest (top) of the mountains form the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Continental Div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Divides the direction in which rivers d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st flowing rivers empty into the Gulf of Me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t flowing rivers empty into the Atlantic Oc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871520" y="1905120"/>
            <a:ext cx="381492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the-appalachians0"/>
          <p:cNvPicPr/>
          <p:nvPr/>
        </p:nvPicPr>
        <p:blipFill>
          <a:blip r:embed="rId1"/>
          <a:stretch/>
        </p:blipFill>
        <p:spPr>
          <a:xfrm>
            <a:off x="4038480" y="1295280"/>
            <a:ext cx="3657600" cy="2617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US43_AJE0071_M-FB"/>
          <p:cNvPicPr/>
          <p:nvPr/>
        </p:nvPicPr>
        <p:blipFill>
          <a:blip r:embed="rId2"/>
          <a:stretch/>
        </p:blipFill>
        <p:spPr>
          <a:xfrm>
            <a:off x="5334120" y="4076640"/>
            <a:ext cx="3504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3300"/>
                </a:solidFill>
                <a:latin typeface="Times New Roman"/>
              </a:rPr>
              <a:t>c. Locate and evaluate the importance of key physical features on the development of Georgia; include the Fall Line, Okefenokee Swamp, Appalachian Mountains, Chattahoochee and Savannah Rivers, and barrier islands.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ttahoochee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Begins in the Blue Ridge Mounta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Flows southwest towards Alabama and into the Gulf of Me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ortant for Georgians f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1. Drinking Wa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2. hydroelectric pow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3. recre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871520" y="2211120"/>
            <a:ext cx="3814920" cy="39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Chattahoochee_watershed"/>
          <p:cNvPicPr/>
          <p:nvPr/>
        </p:nvPicPr>
        <p:blipFill>
          <a:blip r:embed="rId1"/>
          <a:stretch/>
        </p:blipFill>
        <p:spPr>
          <a:xfrm>
            <a:off x="4495680" y="2362320"/>
            <a:ext cx="4419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3300"/>
                </a:solidFill>
                <a:latin typeface="Times New Roman"/>
              </a:rPr>
              <a:t>c. Locate and evaluate the importance of key physical features on the development of Georgia; include the Fall Line, Okefenokee Swamp, Appalachian Mountains, Chattahoochee and Savannah Rivers, and barrier islands.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annah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Natural boundary between Georgia and South Carol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Flows southeast into the Atlantic Oce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ortant for Georgians f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1. Drinking Wa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2. hydroelectric pow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3. recre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871520" y="2363760"/>
            <a:ext cx="381492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savannahrivermap"/>
          <p:cNvPicPr/>
          <p:nvPr/>
        </p:nvPicPr>
        <p:blipFill>
          <a:blip r:embed="rId1"/>
          <a:stretch/>
        </p:blipFill>
        <p:spPr>
          <a:xfrm>
            <a:off x="4495680" y="2209680"/>
            <a:ext cx="435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3300"/>
                </a:solidFill>
                <a:latin typeface="Times New Roman"/>
              </a:rPr>
              <a:t>c. Locate and evaluate the importance of key physical features on the development of Georgia; include the Fall Line, Okefenokee Swamp, Appalachian Mountains, Chattahoochee and Savannah Rivers, and barrier islands.</a:t>
            </a:r>
            <a:br>
              <a:rPr sz="2100"/>
            </a:b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ier Is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rrier islands are found along nearly the entire </a:t>
            </a:r>
            <a:r>
              <a:rPr b="1" lang="en-US" sz="2200" spc="-1" strike="noStrike">
                <a:solidFill>
                  <a:srgbClr val="92d050"/>
                </a:solidFill>
                <a:latin typeface="Arial"/>
              </a:rPr>
              <a:t>eastern seaboar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United Stat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They protect the mainland from stor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2d050"/>
                </a:solidFill>
                <a:latin typeface="Arial"/>
              </a:rPr>
              <a:t>Important for tourism, fishing, and paper p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7" descr="Georgia's Coast and Barrier Islands"/>
          <p:cNvPicPr/>
          <p:nvPr/>
        </p:nvPicPr>
        <p:blipFill>
          <a:blip r:embed="rId1"/>
          <a:stretch/>
        </p:blipFill>
        <p:spPr>
          <a:xfrm>
            <a:off x="4419720" y="2057400"/>
            <a:ext cx="4572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d. Evaluate the impact of climate on Georgia’s development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205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ather – The day to day change of the earth’s atmosphere in regard to temperature, moisture, wind velocity and 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mate – the average of weather patterns measured over a long period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SS8G1 a.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Locate Georgia in relation to region, nation, continent, and hemispheres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2668320"/>
            <a:ext cx="3741840" cy="34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Geograp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Geography</a:t>
            </a:r>
            <a:r>
              <a:rPr b="0" lang="en-US" sz="2800" spc="-1" strike="noStrike">
                <a:solidFill>
                  <a:srgbClr val="92d050"/>
                </a:solidFill>
                <a:latin typeface="Arial"/>
              </a:rPr>
              <a:t> – the science of studying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871520" y="2440080"/>
            <a:ext cx="3814920" cy="36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full-20earth2"/>
          <p:cNvPicPr/>
          <p:nvPr/>
        </p:nvPicPr>
        <p:blipFill>
          <a:blip r:embed="rId1"/>
          <a:stretch/>
        </p:blipFill>
        <p:spPr>
          <a:xfrm>
            <a:off x="4572000" y="2438280"/>
            <a:ext cx="41911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osing Questions (At the end of the notes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914400" y="1600200"/>
          <a:ext cx="7772400" cy="365760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3659400">
                <a:tc>
                  <a:txBody>
                    <a:bodyPr lIns="114480" rIns="114480" tIns="0" bIns="0" anchor="t">
                      <a:noAutofit/>
                    </a:bodyPr>
                    <a:p>
                      <a:pPr marL="457200" indent="-45720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 is Georgia in terms of hemisphere, continent, nation, region and global position? (G1a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 North American physiographic regions are found in Georgia and what are some distinguishing characteristics of each? (G1b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relative location of these physiographic regions within the boundaries of the State? (G1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are the significant physical features of Georgia that have impacted its development and in what manner have the affected Georgia? (G1c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has climate played a role in Georgia’s development? (G1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</a:tbl>
          </a:graphicData>
        </a:graphic>
      </p:graphicFrame>
      <p:sp>
        <p:nvSpPr>
          <p:cNvPr id="208" name="TextBox 6"/>
          <p:cNvSpPr/>
          <p:nvPr/>
        </p:nvSpPr>
        <p:spPr>
          <a:xfrm>
            <a:off x="1295280" y="563868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2 out of the 5 to write and answer. Please ensure that you have a complete sentence. For example:  (if you answer #1: Georgia is in the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eorgia’s Clima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eorgia's climate varies from the </a:t>
            </a:r>
            <a:r>
              <a:rPr b="0" lang="en-US" sz="25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mountains</a:t>
            </a:r>
            <a:r>
              <a:rPr b="0" lang="en-US" sz="25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the </a:t>
            </a:r>
            <a:r>
              <a:rPr b="0" lang="en-US" sz="25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Coastal Plai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beach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mperate and influenced by Georgia's proximity (distance) to the Atlantic Ocean and the Gulf of Mexic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winter there are blasts of cold Arctic air coming southward from Canad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http://www.georgia.org/wp-content/uploads/2013/09/lifestyle_climate.jpg"/>
          <p:cNvPicPr/>
          <p:nvPr/>
        </p:nvPicPr>
        <p:blipFill>
          <a:blip r:embed="rId3"/>
          <a:stretch/>
        </p:blipFill>
        <p:spPr>
          <a:xfrm>
            <a:off x="4718160" y="2200320"/>
            <a:ext cx="3809880" cy="1409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http://www.aboutnorthgeorgia.com/images/blue_ridge_mountains.jpg"/>
          <p:cNvPicPr/>
          <p:nvPr/>
        </p:nvPicPr>
        <p:blipFill>
          <a:blip r:embed="rId4"/>
          <a:stretch/>
        </p:blipFill>
        <p:spPr>
          <a:xfrm>
            <a:off x="4984920" y="155520"/>
            <a:ext cx="3543120" cy="1676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http://www.gly.uga.edu/railsback/CTW/CTWSoybeans&amp;Cotton.jpeg"/>
          <p:cNvPicPr/>
          <p:nvPr/>
        </p:nvPicPr>
        <p:blipFill>
          <a:blip r:embed="rId5"/>
          <a:stretch/>
        </p:blipFill>
        <p:spPr>
          <a:xfrm>
            <a:off x="4646520" y="3860640"/>
            <a:ext cx="395928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7800" y="1144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Georgia’s climate can be described as mild, temperate, or humid subtrop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Winters in Georgia are cool while summers are warm to h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Both the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 Piedmont and Coastal Plain regions have longer and hotter summers because of their location near/in between the warm waters of the Gulf of Mexico and the Atlantic Oce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https://sp.yimg.com/ib/th?id=JN.LcIfh1pM7QS9Zik1%2fjpebQ&amp;pid=15.1&amp;P=0"/>
          <p:cNvPicPr/>
          <p:nvPr/>
        </p:nvPicPr>
        <p:blipFill>
          <a:blip r:embed="rId1"/>
          <a:stretch/>
        </p:blipFill>
        <p:spPr>
          <a:xfrm>
            <a:off x="6480" y="-2133720"/>
            <a:ext cx="2857320" cy="1828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https://sp.yimg.com/ib/th?id=JN.LcIfh1pM7QS9Zik1%2fjpebQ&amp;pid=15.1&amp;P=0"/>
          <p:cNvPicPr/>
          <p:nvPr/>
        </p:nvPicPr>
        <p:blipFill>
          <a:blip r:embed="rId2"/>
          <a:stretch/>
        </p:blipFill>
        <p:spPr>
          <a:xfrm>
            <a:off x="3733920" y="4361040"/>
            <a:ext cx="2857320" cy="1828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28800" y="385920"/>
            <a:ext cx="77580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GA County Ques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irections: Use page 602 in your textbook to help you answer the following questions on a sheet of pap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 How many counties are there in Georgi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 Identify the county in which you live 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 Identify each county that borders the Atlantic Ocean and list th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. Identify the counties of Georgia that border Florida and list th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 Which counties share more than one state border? Which states do these counties touch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Times New Roman"/>
              </a:rPr>
              <a:t>SS8G1 a.</a:t>
            </a:r>
            <a:r>
              <a:rPr b="0" lang="en-US" sz="3800" spc="-1" strike="noStrike">
                <a:solidFill>
                  <a:srgbClr val="ff3300"/>
                </a:solidFill>
                <a:latin typeface="Times New Roman"/>
              </a:rPr>
              <a:t> Locate Georgia in relation to region, nation, continent, and hemispheres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2590560"/>
            <a:ext cx="3429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itu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parallel lines that run east and west, but measure north and south locations on the earth’s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*Draw circle with a line in the middle from side to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3679920" y="1219320"/>
            <a:ext cx="4724280" cy="4267080"/>
          </a:xfrm>
          <a:prstGeom prst="rect">
            <a:avLst/>
          </a:prstGeom>
          <a:ln w="0">
            <a:noFill/>
          </a:ln>
        </p:spPr>
      </p:pic>
      <p:sp>
        <p:nvSpPr>
          <p:cNvPr id="111" name="Oval 1"/>
          <p:cNvSpPr/>
          <p:nvPr/>
        </p:nvSpPr>
        <p:spPr>
          <a:xfrm>
            <a:off x="4773600" y="5257800"/>
            <a:ext cx="2514600" cy="1447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3"/>
          <p:cNvSpPr/>
          <p:nvPr/>
        </p:nvSpPr>
        <p:spPr>
          <a:xfrm>
            <a:off x="4773600" y="598176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Times New Roman"/>
              </a:rPr>
              <a:t>SS8G1 a.</a:t>
            </a:r>
            <a:r>
              <a:rPr b="0" lang="en-US" sz="3800" spc="-1" strike="noStrike">
                <a:solidFill>
                  <a:srgbClr val="ff3300"/>
                </a:solidFill>
                <a:latin typeface="Times New Roman"/>
              </a:rPr>
              <a:t> Locate Georgia in relation to region, nation, continent, and hemispheres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3276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itu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meridian lines that run north and south, but measure east and west locations on the earth’s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*Draw circle with a line in the middle from top to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4038480" y="1295280"/>
            <a:ext cx="4648320" cy="4267440"/>
          </a:xfrm>
          <a:prstGeom prst="rect">
            <a:avLst/>
          </a:prstGeom>
          <a:ln w="0">
            <a:noFill/>
          </a:ln>
        </p:spPr>
      </p:pic>
      <p:sp>
        <p:nvSpPr>
          <p:cNvPr id="116" name="Oval 1"/>
          <p:cNvSpPr/>
          <p:nvPr/>
        </p:nvSpPr>
        <p:spPr>
          <a:xfrm>
            <a:off x="4775040" y="5562720"/>
            <a:ext cx="1600200" cy="12189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3"/>
          <p:cNvSpPr/>
          <p:nvPr/>
        </p:nvSpPr>
        <p:spPr>
          <a:xfrm>
            <a:off x="5562720" y="5562720"/>
            <a:ext cx="1260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384120"/>
            <a:ext cx="77724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Times New Roman"/>
              </a:rPr>
              <a:t>SS8G1 a.</a:t>
            </a:r>
            <a:r>
              <a:rPr b="0" lang="en-US" sz="3800" spc="-1" strike="noStrike">
                <a:solidFill>
                  <a:srgbClr val="ff3300"/>
                </a:solidFill>
                <a:latin typeface="Times New Roman"/>
              </a:rPr>
              <a:t> Locate Georgia in relation to region, nation, continent, and hemispheres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266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The Equator and Prime Meridian divide the earth into hemispheres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mispheres – two halves of a 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"/>
          <p:cNvPicPr/>
          <p:nvPr/>
        </p:nvPicPr>
        <p:blipFill>
          <a:blip r:embed="rId1"/>
          <a:stretch/>
        </p:blipFill>
        <p:spPr>
          <a:xfrm>
            <a:off x="3048120" y="2133720"/>
            <a:ext cx="5867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Times New Roman"/>
              </a:rPr>
              <a:t>SS8G1 a.</a:t>
            </a:r>
            <a:r>
              <a:rPr b="0" lang="en-US" sz="3800" spc="-1" strike="noStrike">
                <a:solidFill>
                  <a:srgbClr val="ff3300"/>
                </a:solidFill>
                <a:latin typeface="Times New Roman"/>
              </a:rPr>
              <a:t> Locate Georgia in relation to region, nation, continent, and hemispheres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Times New Roman"/>
              </a:rPr>
              <a:t>SS8G1 a.</a:t>
            </a:r>
            <a:r>
              <a:rPr b="0" lang="en-US" sz="3800" spc="-1" strike="noStrike">
                <a:solidFill>
                  <a:srgbClr val="ff3300"/>
                </a:solidFill>
                <a:latin typeface="Times New Roman"/>
              </a:rPr>
              <a:t> Locate Georgia in relation to region, nation, continent, and hemispheres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534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Times New Roman"/>
              </a:rPr>
              <a:t>SS8G1 a.</a:t>
            </a:r>
            <a:r>
              <a:rPr b="0" lang="en-US" sz="3800" spc="-1" strike="noStrike">
                <a:solidFill>
                  <a:srgbClr val="ff3300"/>
                </a:solidFill>
                <a:latin typeface="Times New Roman"/>
              </a:rPr>
              <a:t> Locate Georgia in relation to region, nation, continent, and hemispheres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Quick Geography Review/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1. How many continents are on the earth’s surfa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2. What continent is the state of Georgia located i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3. What nation is Georgia apart of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4. What are the major lines of latitude and longitude and what do they 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5. How many hemispheres are the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6. What hemisphere is the state of Georgia located in? (2 answ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8:48:43Z</dcterms:created>
  <dc:creator>Cobb County School District</dc:creator>
  <dc:description/>
  <dc:language>en-US</dc:language>
  <cp:lastModifiedBy>Nicka Grimes</cp:lastModifiedBy>
  <dcterms:modified xsi:type="dcterms:W3CDTF">2015-08-07T17:16:51Z</dcterms:modified>
  <cp:revision>42</cp:revision>
  <dc:subject/>
  <dc:title>Unit 1 Geography</dc:title>
</cp:coreProperties>
</file>